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E56-B6DE-43FF-A4A6-A16FCB02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9E7F-73A6-42C5-97F4-553CCCF1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0EC-54DD-4102-A654-A9F4C801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2172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146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8284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22172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146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72D2-60AC-430E-9FA7-281C807F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D26D-5FB8-4324-B505-EF274FA1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0701-F0E5-43F4-A10F-6B680531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630E-C726-49C3-8462-18494AE6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418D-332C-4277-A31C-4900AB4E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3C12-5A97-418D-A703-0BF61F98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440" y="188640"/>
            <a:ext cx="7077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C2CF-43F8-47EE-BDE9-89CA5398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77E2-FF42-4A88-8C8D-2DC5B503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14F-E1A5-49EC-B948-00943ED6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D1CA-68CE-4CB0-8514-60643140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BFAE-D17D-4FF9-A51F-8BEC0194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2871-7D3E-4889-BA5E-0AE8C662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100A-239C-45B8-BA23-CF544751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2172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146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8284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22172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146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2915-FBF3-402C-80B5-CBAD252F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BA586-76BA-4DAC-B840-89EDBEC2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0964B-1E3E-4A0E-A145-D5AFBFF0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6096B-F4CC-45A4-9C8E-19C1968C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7A7B7-2423-46C3-9005-3929BBBF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DA0BE-9815-4C12-9DF6-FF799DF5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4ED-D00E-47E7-B2D1-5D163AAB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828440" y="188640"/>
            <a:ext cx="7077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2D567-1099-44ED-BF9A-9A040A68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651E7-A661-4A84-869A-780564CF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400E7-CF62-40ED-87DA-749CCACA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85F62-094B-4BA9-8BC2-EC186F6B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21714-1E71-44E7-B434-DBF0598C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E2A1A-CB49-4494-9337-423DCE9F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2172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146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8284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22172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6146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85D34-EF07-4C85-A507-FC8E281C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1C854-C8F2-4E95-B87D-B57F0C55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F6FF8-BABF-4C24-9F98-E7504810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057E1-D873-4CAD-8BA9-D8CB77EC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102-5E59-4F13-B1FE-DD60B4A2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18DBA-0787-4FD6-AA32-8242426C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C579D-70F4-46CA-94D9-B1036D48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828440" y="188640"/>
            <a:ext cx="7077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DD23C-3317-40DE-9091-23D07DF2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4A07E-2897-46EC-826E-68B114AB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F3B14-271B-4806-82C7-2B895E43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5B353-2BE5-47EF-93D6-FCA6750F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51889-0199-4828-98F0-23781974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51C11-BB83-47B2-949E-E7C7F30B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2172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146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8284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22172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146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94FF3-8E0E-41C4-98A3-B7B5EEC3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5F5-2F77-4723-8A83-2D108373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440" y="188640"/>
            <a:ext cx="7077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1CA-3B8C-486C-ADA2-16166E60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B60E-39C3-4A4B-B999-83F10B33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E124-D3DF-4118-9EA6-66E62A35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E53-187C-48A0-BA96-8DFA0DF2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9729-CF48-4E9A-9E22-0796F128D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57A1-EE75-419B-85F7-25A3B491A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EBF9-0059-44EA-939B-45E46DC7F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49E5-E7FA-482D-B3EC-19786AC2D06C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95252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aising Entrepreneurial Capital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04920" y="5810040"/>
            <a:ext cx="86868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Chapter 9: Franchis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ailure rat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hile new business start-ups fail at a rate estimated in the 70% range during their first five years in business, the failure rate among new franchises is far lower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ome sources cite the failure rate as low as 5%, but it is important to note that this is the failure of the </a:t>
            </a:r>
            <a:r>
              <a:rPr b="0" i="1" lang="en-US" sz="3200" spc="-1" strike="noStrike">
                <a:solidFill>
                  <a:srgbClr val="080808"/>
                </a:solidFill>
                <a:latin typeface="Tahoma"/>
              </a:rPr>
              <a:t>franchise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not the franchisee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Lowering operating cost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Centralized functions that can achieve economies of scale are most efficiently carried out by the franchiser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Cost savings due to scale can be achieved in purchasing and advertising for example and passed on to the franchisee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Local site improvements are generally best carried out by the franchisee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rawbacks to franchising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franchisee must share the wealth through royalties and other fees and expenses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amount of time and effort devoted to launching and running the business is similar to any other entrepreneurial venture but the entrepreneur relinquishes a degree of control and independence to the franchiser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osts to enter a franchise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ary dramatically by the type and market share of the franchise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nitial franchise fees, the cost to buy into the franchise, range from under $10,000 to several million dollars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average franchise fee is under $250,000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ue diligence and the UFOC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ranchisee's primary tool is the Uniform Franchise Offering Circular (UFOC)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s document, required of all franchisers since 1979, is essentially a prospectus describing the business and the opportunity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t is required by the FTC and must be supplied by the franchiser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More due diligence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nterview several current franchisees and as many as feasible of the ones who have left. Find out the reasons that those people leaving the system left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sk current franchisees whether they would invest in this franchise if they had it to do over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sk about profitability and time to break even for their franchise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Initial investmen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ypical startup investment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ost franchisers want you to have at least some of your own cash to cover part of the initial start up costs, often 20%-50% of the franchise fee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ash flow is likely to be tight in the first year or two and debt service payments might be enough to push the fragile franchise into unprofitability or worse.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ranchiser financing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Many franchisers provide financial help in some way. Often it is through an established relationship with a lender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Frequent lender is familiar with the business model and the cash flow needs of the franchise at start up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Some franchisers provide financing themselves, and some obtain financing on behalf of the franchisee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BA financing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The U.S. Small Business Administration has been guaranteeing loans for franchisees since 1993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Franchisers may register with the SBA Franchise Registry. Optional, and does not convey approval by the SBA, but  is a mechanism to expedite financing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Franchiser’s application is approved once, for as long as the franchiser retains the terms of the franchising agreement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BA financing advantag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BA loan guarantees cover 85% - 90% of the loan amount. Loans are made for general purposes, including the franchise fee, and for real estate acquisition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Loan maturity can extend to twenty-five years, rather than the 2-4 years typical of a commercial bank loan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ranchises are big busines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n the US nearly half of all retail sales occur through 3,000+ franchises, and total a trillion dollars in sales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ranchises exist worldwide. Ten percent of retail in the United Kingdom, France and Australia is carried out in franchises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BA term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80808"/>
                </a:solidFill>
                <a:latin typeface="Tahoma"/>
              </a:rPr>
              <a:t>The SBA prefers that the borrower have 30% of the franchise fee in cash before a loan is granted. </a:t>
            </a:r>
            <a:endParaRPr b="0" lang="en-US" sz="3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80808"/>
                </a:solidFill>
                <a:latin typeface="Tahoma"/>
              </a:rPr>
              <a:t>The loan applicant must still comply with the SBA’s requirements for experience, financial resources, character and capacity to repay.</a:t>
            </a:r>
            <a:endParaRPr b="0" lang="en-US" sz="3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he successful franchise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s somewhere between an entrepreneur and an employee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hard work and drive associated with the entrepreneur are still needed for a successful franchise,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ut the typical franchisee neither needs, nor typically has, the vision and constant pursuit of new ideas typical of most entrepreneurs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he </a:t>
            </a:r>
            <a:r>
              <a:rPr b="0" i="1" lang="en-US" sz="4400" spc="-1" strike="noStrike">
                <a:solidFill>
                  <a:srgbClr val="080808"/>
                </a:solidFill>
                <a:latin typeface="Tahoma"/>
              </a:rPr>
              <a:t>franchis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originator of a business concept or product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n entrepreneur who chooses to grow by leasing his or her idea to others, the </a:t>
            </a:r>
            <a:r>
              <a:rPr b="0" i="1" lang="en-US" sz="3200" spc="-1" strike="noStrike">
                <a:solidFill>
                  <a:srgbClr val="080808"/>
                </a:solidFill>
                <a:latin typeface="Tahoma"/>
              </a:rPr>
              <a:t>franchisees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, to penetrate the market and expand geographically faster than would be possible for the franchiser to do on his or her own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he </a:t>
            </a:r>
            <a:r>
              <a:rPr b="0" i="1" lang="en-US" sz="4400" spc="-1" strike="noStrike">
                <a:solidFill>
                  <a:srgbClr val="080808"/>
                </a:solidFill>
                <a:latin typeface="Tahoma"/>
              </a:rPr>
              <a:t>franchise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The operator, licensed to use the franchise name and operate under the rules and directives of the franchiser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The franchisee buys the right to use the franchise, typically for five to ten years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The agreement can be renewed but this arrangement provides protection to the franchiser against being saddled with a substandard franchisee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roduct/trade name franchis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Grant the right to sell a product or use a trade name. Franchisee functions essentially as a distributor. 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Independent business benefiting from franchise-wide marketing efforts and name recognition and reputation. 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Largely auto/truck dealers, soft drink bottlers and gasoline service stations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20% of franchises, generate over half of the sales in the franchising industry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usiness format franchis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complete business system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franchisee acquires a proven business model, receives expert guidance and advice and usually has exclusive rights to a geographic territory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franchiser realizes increased revenue and more rapid expansion than would be feasible otherwise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ranchise agreemen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Establishes standards for the business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Operating systems, technical expertise, hiring guidelines and management methods are provided, and procedures are specified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The franchiser provides marketing, and often products, supplies and services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Training is provided both at start-up and on an ongoing basis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Lowering the risk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Brand name is well known and respected, positioning the entrepreneur in the marketplace. Think McDonald’s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If the franchise has an established track record, the franchisee is purchasing a proven business model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Franchiser often provides help with site selection, facility layout, vendors and financing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23:10:37Z</dcterms:created>
  <dc:creator>John B. Vinturella</dc:creator>
  <dc:description/>
  <dc:language>en-US</dc:language>
  <cp:lastModifiedBy>User</cp:lastModifiedBy>
  <dcterms:modified xsi:type="dcterms:W3CDTF">2009-03-24T13:25:38Z</dcterms:modified>
  <cp:revision>82</cp:revision>
  <dc:subject/>
  <dc:title>Raising Entrepreneurial Capital </dc:title>
</cp:coreProperties>
</file>